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C4C3A-3195-4441-A3BE-9A16FD5F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70D6B-7E2B-4085-8A40-CF19B6DE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33C34-0075-406C-AB7A-424266FD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3D89E-F117-4CC2-AD9D-E4FD23D11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0491-49ED-451E-9369-1A2284A0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0E06-9710-4118-8F7A-16A955F4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8D4F-3944-48D9-8104-E7400A2D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E5C9-E891-4B4C-9BC4-C2EA4A21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A3C7-96CE-49CC-983C-DFE1FC73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4C8F-1CA4-428E-9C10-5D4EA38E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22BC-97A9-4EA1-9727-CFC9A232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2BDD8-8C88-4DEA-893B-388857A2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DB61-EA58-4F08-8A8B-656B5EB2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6F09-127A-4330-84D4-0FA687B4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7DB2-BB9A-4608-8A66-5D06CB75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EEC1-9AEB-4C2A-B675-3F29D5B3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69DF-CC6E-4510-9B6F-53152A29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686F2-E1E6-4A38-8B01-0B2B0628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D2101-C12E-429F-9D38-9D198E23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47ACB-5186-497F-84BB-036E74BF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40265-D8B5-439E-9635-F4B1042C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BBD44-CF29-4EB1-80B1-FF1215D2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105E0-2DDE-4E68-ABAE-07727AEB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B7E37-F0E7-42C9-ACFA-14CBB7B8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31A3-4018-4BCA-A387-2299990E3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4CE8-6FD1-4C48-9CF4-FD0A20F8B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Forte"/>
              </a:rPr>
              <a:t>SOSYAL </a:t>
            </a:r>
            <a:br>
              <a:rPr sz="9600"/>
            </a:br>
            <a:r>
              <a:rPr b="1" lang="en-US" sz="9600" spc="-1" strike="noStrike">
                <a:solidFill>
                  <a:srgbClr val="0033cc"/>
                </a:solidFill>
                <a:latin typeface="Forte"/>
              </a:rPr>
              <a:t>BİLGİLER</a:t>
            </a:r>
            <a:r>
              <a:rPr b="1" lang="en-US" sz="9600" spc="-1" strike="noStrike">
                <a:solidFill>
                  <a:srgbClr val="ff0000"/>
                </a:solidFill>
                <a:latin typeface="Forte"/>
              </a:rPr>
              <a:t> </a:t>
            </a:r>
            <a:br>
              <a:rPr sz="9600"/>
            </a:br>
            <a:r>
              <a:rPr b="1" lang="en-US" sz="9600" spc="-1" strike="noStrike">
                <a:solidFill>
                  <a:srgbClr val="009900"/>
                </a:solidFill>
                <a:latin typeface="Forte"/>
              </a:rPr>
              <a:t>DERSİ</a:t>
            </a:r>
            <a:r>
              <a:rPr b="1" lang="en-US" sz="9600" spc="-1" strike="noStrike">
                <a:solidFill>
                  <a:srgbClr val="ff0000"/>
                </a:solidFill>
                <a:latin typeface="Forte"/>
              </a:rPr>
              <a:t> </a:t>
            </a:r>
            <a:br>
              <a:rPr sz="9600"/>
            </a:br>
            <a:r>
              <a:rPr b="1" lang="en-US" sz="9600" spc="-1" strike="noStrike">
                <a:solidFill>
                  <a:srgbClr val="ff0066"/>
                </a:solidFill>
                <a:latin typeface="Forte"/>
              </a:rPr>
              <a:t>SORULARI</a:t>
            </a:r>
            <a:endParaRPr b="1" lang="en-US" sz="9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7280" y="2421000"/>
            <a:ext cx="649152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Comic Sans MS"/>
              </a:rPr>
              <a:t>Cevap: </a:t>
            </a:r>
            <a:r>
              <a:rPr b="0" lang="en-US" sz="4800" spc="-1" strike="noStrike">
                <a:solidFill>
                  <a:srgbClr val="ff3300"/>
                </a:solidFill>
                <a:latin typeface="Comic Sans MS"/>
              </a:rPr>
              <a:t>B)Görüş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Aşağıdakilerden hangisi vatandaşlık görevlerimizin arasında sayılmaz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)Vergi vermek    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)Askere gitmek    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)Araba almak    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)Oy kullanmak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Cevap: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)Araba almak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şağıdakilerden hangisi Sosyal Bilgiler dersinin yararları ile ilgili doğru bir yargı değildir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Bitkilerin gelişim evrelerini öğreti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TBMM’nin kuruluşunu ve amaçlarını öğreti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Türkiye’deki ovaların dağılımını öğreti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) Vatandaşlık haklarımızın ne olduğunu açıkla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evap: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) Bitkilerin gelişim evrelerini öğreti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Aşağıdakilerden hangisi araştırma basamaklarının dördüncü basamağıdır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)Hipotez oluşturma    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)Konuyu belirleme    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)Sınıflandırma        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)Metin Oluşturma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evap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)Sınıflandırma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Forte"/>
              </a:rPr>
              <a:t>2.ÜNİTE</a:t>
            </a:r>
            <a:br>
              <a:rPr sz="9600"/>
            </a:br>
            <a:br>
              <a:rPr sz="4800"/>
            </a:br>
            <a:r>
              <a:rPr b="0" lang="en-US" sz="7200" spc="-1" strike="noStrike">
                <a:solidFill>
                  <a:srgbClr val="3399ff"/>
                </a:solidFill>
                <a:latin typeface="Forte"/>
              </a:rPr>
              <a:t>YERYÜZÜNDE</a:t>
            </a:r>
            <a:br>
              <a:rPr sz="7200"/>
            </a:br>
            <a:br>
              <a:rPr sz="3600"/>
            </a:br>
            <a:r>
              <a:rPr b="0" lang="en-US" sz="7200" spc="-1" strike="noStrike">
                <a:solidFill>
                  <a:srgbClr val="3399ff"/>
                </a:solidFill>
                <a:latin typeface="Forte"/>
              </a:rPr>
              <a:t>YAŞAM</a:t>
            </a:r>
            <a:endParaRPr b="1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pull dir="r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424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Dünyayı dikey yönden saran hayali çizgilere paralel den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Türkiye’nin matematik konumu 26-45 doğu meridyenleri, 36-42 kuzey paralellerid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Akdeniz İklimi’nin bitki örtüsü bozkırd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Tarih öncesi çağlar MS olarak gösteril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Hititlerin başkenti Hattuşaş’t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5183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Dünyayı dikey yönden saran hayali çizgilere paralel den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Türkiye’nin matematik konumu 26-45 doğu meridyenleri, 36-42 kuzey paralellerid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Akdeniz İklimi’nin bitki örtüsü bozkırd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Tarih öncesi çağlar MS olarak gösteril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Hititlerin başkenti Hattuşaş’tı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ünya’yı dikey olarak kesmeyen hayali çizgilere ……………… den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………………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İklim de yazlar sıcak ve kurak, kışlar ise soğuk ve yağışlı geçe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Ö ki son devir ……………… Devri’d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titler …………… adında yıllıklar tutmuşlard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ral Yolu’nu ……………… yapmışt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915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ünya’yı dikey olarak kesmeyen hayali çizgilere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parale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den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Karasa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İklim de yazlar sıcak ve kurak, kışlar ise soğuk ve yağışlı geçe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Ö ki son devir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Mad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Devri’d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titler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a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dında yıllıklar tutmuşlard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ral Yolu’nu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Lidyalıla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yapmışt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99"/>
                </a:solidFill>
                <a:latin typeface="Comic Sans MS"/>
              </a:rPr>
              <a:t>Anadolu’da Sakarya Irmağı çevresinde kurulan uygarlıktır.Tarım ve hayvancılıkla uğraşmışlardır.Tarımı korumak amacıyla ağır yasalar yapmışlardır.</a:t>
            </a: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Comic Sans MS"/>
              </a:rPr>
              <a:t>    </a:t>
            </a:r>
            <a:r>
              <a:rPr b="1" lang="tr-TR" sz="2800" spc="-1" strike="noStrike">
                <a:solidFill>
                  <a:srgbClr val="000066"/>
                </a:solidFill>
                <a:latin typeface="Comic Sans MS"/>
              </a:rPr>
              <a:t>Özellikleri verilen uygarlık aşağıdakilerden hangisidir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A) Lidyalılar     B) Hititler 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C) Frigyalılar    D) Urartular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99"/>
                </a:solidFill>
                <a:latin typeface="Comic Sans MS"/>
              </a:rPr>
              <a:t>Cevap:</a:t>
            </a:r>
            <a:r>
              <a:rPr b="0" lang="tr-TR" sz="2800" spc="-1" strike="noStrike">
                <a:solidFill>
                  <a:srgbClr val="000099"/>
                </a:solidFill>
                <a:latin typeface="Garamond"/>
              </a:rPr>
              <a:t> </a:t>
            </a:r>
            <a:r>
              <a:rPr b="0" lang="tr-TR" sz="2800" spc="-1" strike="noStrike">
                <a:solidFill>
                  <a:srgbClr val="ff3300"/>
                </a:solidFill>
                <a:latin typeface="Comic Sans MS"/>
              </a:rPr>
              <a:t>C) Frigyalılar</a:t>
            </a: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Forte"/>
              </a:rPr>
              <a:t>1.ÜNİTE</a:t>
            </a:r>
            <a:br>
              <a:rPr sz="6600"/>
            </a:br>
            <a:br>
              <a:rPr sz="6600"/>
            </a:br>
            <a:r>
              <a:rPr b="1" lang="en-US" sz="6600" spc="-1" strike="noStrike">
                <a:solidFill>
                  <a:srgbClr val="3399ff"/>
                </a:solidFill>
                <a:latin typeface="Forte"/>
              </a:rPr>
              <a:t>SOSYAL BİLGİLER</a:t>
            </a:r>
            <a:br>
              <a:rPr sz="6600"/>
            </a:br>
            <a:br>
              <a:rPr sz="3200"/>
            </a:br>
            <a:r>
              <a:rPr b="1" lang="en-US" sz="6600" spc="-1" strike="noStrike">
                <a:solidFill>
                  <a:srgbClr val="3399ff"/>
                </a:solidFill>
                <a:latin typeface="Forte"/>
              </a:rPr>
              <a:t>ÖĞRENİYORUM</a:t>
            </a:r>
            <a:br>
              <a:rPr sz="6600"/>
            </a:br>
            <a:endParaRPr b="1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362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Comic Sans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Aşağıdaki il merkezlerinden hangisinde Akdeniz İklimi görülmez?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) Mersin     B) Konya    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) İzmir       D) Denizl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Cevap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B) Kony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şağıdakilerden hangisi Cilalı Taş Devri’nde yerleşik yaşama geçildiğine kanıt olarak gösterilebilir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) Seramik araç-gereçler yapılması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) Tarımla uğraşılması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) Mağara duvarlarına resimler yapılması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) Ateşin bulunması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evap: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B) Tarımla uğraşılması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Aşağıdaki tarım ürünlerinden hangisi karasal iklimde yetişir?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) Fındık         B) Pamuk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) Nohut         D)Zeyti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Cevap: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) Nohu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4358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Comic Sans MS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İlk parayı bulan uygarlık aşağıdakilerden hangisidir?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)Hititler       B)İyonlar     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)Lidyalılar     D)Urartular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Cevap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)Lidyalılar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Forte"/>
              </a:rPr>
              <a:t>3.ÜNİTE</a:t>
            </a:r>
            <a:br>
              <a:rPr sz="6600"/>
            </a:br>
            <a:br>
              <a:rPr sz="3200"/>
            </a:br>
            <a:r>
              <a:rPr b="0" lang="en-US" sz="7200" spc="-1" strike="noStrike">
                <a:solidFill>
                  <a:srgbClr val="3366ff"/>
                </a:solidFill>
                <a:latin typeface="Forte"/>
              </a:rPr>
              <a:t>İPEK YOLUNDA</a:t>
            </a:r>
            <a:br>
              <a:rPr sz="7200"/>
            </a:br>
            <a:br>
              <a:rPr sz="4000"/>
            </a:br>
            <a:r>
              <a:rPr b="0" lang="en-US" sz="7200" spc="-1" strike="noStrike">
                <a:solidFill>
                  <a:srgbClr val="3366ff"/>
                </a:solidFill>
                <a:latin typeface="Forte"/>
              </a:rPr>
              <a:t>TÜRKLER</a:t>
            </a:r>
            <a:endParaRPr b="1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pull dir="rd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(  )İslamiyet öncesi Türk toplulukları göçebe yaşam sürmüşlerd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(  )Türk Silahlı Kuvvetleri’nin kurucusu Mete Han’dır.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(  )Asya Hun Devleti’nin başkenti Ötügen’d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(  )Uygurların ilk hükümdarı Bismin Han’d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(  )Uygurlar yerleşik hayata geçen ilk Türk devletid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tr-TR" sz="3600" spc="-1" strike="noStrike">
                <a:solidFill>
                  <a:srgbClr val="ff3300"/>
                </a:solidFill>
                <a:latin typeface="Comic Sans MS"/>
              </a:rPr>
              <a:t>D</a:t>
            </a: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)İslamiyet öncesi Türk toplulukları göçebe yaşam sürmüşlerd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tr-TR" sz="3600" spc="-1" strike="noStrike">
                <a:solidFill>
                  <a:srgbClr val="ff3300"/>
                </a:solidFill>
                <a:latin typeface="Comic Sans MS"/>
              </a:rPr>
              <a:t>Y</a:t>
            </a: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)Türk Silahlı Kuvvetleri’nin kurucusu Mete Han’dır.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tr-TR" sz="3600" spc="-1" strike="noStrike">
                <a:solidFill>
                  <a:srgbClr val="ff3300"/>
                </a:solidFill>
                <a:latin typeface="Comic Sans MS"/>
              </a:rPr>
              <a:t>D</a:t>
            </a: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)Asya Hun Devleti’nin başkenti Ötügen’d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tr-TR" sz="3600" spc="-1" strike="noStrike">
                <a:solidFill>
                  <a:srgbClr val="ff3300"/>
                </a:solidFill>
                <a:latin typeface="Comic Sans MS"/>
              </a:rPr>
              <a:t>Y</a:t>
            </a: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)Uygurların ilk hükümdarı Bismin Han’d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tr-TR" sz="3600" spc="-1" strike="noStrike">
                <a:solidFill>
                  <a:srgbClr val="ff3300"/>
                </a:solidFill>
                <a:latin typeface="Comic Sans MS"/>
              </a:rPr>
              <a:t>D</a:t>
            </a: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)Uygurlar yerleşik hayata geçen ilk Türk devletid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Çinliler, Hun akınlarından korunabilmek amacıyla ………………… inşa etmişlerd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ygurların yerleşik hayata geçmesine sebep olan, Çinlilerden öğrendikleri ……………… dinid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utluk Devleti’nin en güçlü dönemi ………… ………… dönemid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İslamiyet öncesi Türk toplumundaki en yaygın din ……………… inancı idi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ygurlar 840 yılında ……………………… sonucunda yıkılmışt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Çinliler, Hun akınlarından korunabilmek amacıyla </a:t>
            </a:r>
            <a:r>
              <a:rPr b="0" lang="tr-TR" sz="3200" spc="-1" strike="noStrike">
                <a:solidFill>
                  <a:srgbClr val="ff3300"/>
                </a:solidFill>
                <a:latin typeface="Comic Sans MS"/>
              </a:rPr>
              <a:t>Çin Seddi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’ni inşa etmişlerd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Uygurların yerleşik hayata geçmesine sebep olan, Çinlilerden öğrendikleri </a:t>
            </a:r>
            <a:r>
              <a:rPr b="0" lang="tr-TR" sz="3200" spc="-1" strike="noStrike">
                <a:solidFill>
                  <a:srgbClr val="ff3300"/>
                </a:solidFill>
                <a:latin typeface="Comic Sans MS"/>
              </a:rPr>
              <a:t>Manihezm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dinid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Kutluk Devleti’nin en güçlü dönemi </a:t>
            </a:r>
            <a:r>
              <a:rPr b="0" lang="tr-TR" sz="3200" spc="-1" strike="noStrike">
                <a:solidFill>
                  <a:srgbClr val="ff3300"/>
                </a:solidFill>
                <a:latin typeface="Comic Sans MS"/>
              </a:rPr>
              <a:t>Bilge Kağan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dönemid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İslamiyet öncesi Türk toplumundaki en yaygın din </a:t>
            </a:r>
            <a:r>
              <a:rPr b="0" lang="tr-TR" sz="3200" spc="-1" strike="noStrike">
                <a:solidFill>
                  <a:srgbClr val="ff3300"/>
                </a:solidFill>
                <a:latin typeface="Comic Sans MS"/>
              </a:rPr>
              <a:t>Gök tanrı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inancı idi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Uygurlar 840 yılında </a:t>
            </a:r>
            <a:r>
              <a:rPr b="0" lang="tr-TR" sz="3200" spc="-1" strike="noStrike">
                <a:solidFill>
                  <a:srgbClr val="ff3300"/>
                </a:solidFill>
                <a:latin typeface="Comic Sans MS"/>
              </a:rPr>
              <a:t>Kırgızların Saldırısı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sonucunda yıkılmışt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Orta Asya Türk toplulukları göçebe yaşam tarzını benimsemişlerd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000066"/>
                </a:solidFill>
                <a:latin typeface="Comic Sans MS"/>
              </a:rPr>
              <a:t>Buna göre, aşağıdakilerden hangisinin Türk toplumlarında görülebileceği söylenemez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)Çadır   B)Tapınak   C)Kilim   D)Kılıç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362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kes tarafından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bul edilen sürekli olagelen kolayca anlaşılabilir bilgilere …………………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işiden kişiye değişen kimine göre doğru kimine göre yanlış olan bilgilere ……………… 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için geçici çözüm yoluna ………………… 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ürk Tetkik Cemiyeti’nin sonraki adı ………………………………………… Kurumu’du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 Temmuz 1932’de ……………………………………… kurulmuştur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Cevap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B)Tapınak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99"/>
                </a:solidFill>
                <a:latin typeface="Comic Sans MS"/>
              </a:rPr>
              <a:t>İslam tarihinde Hz. Muhammed’in yönettiği savaşlara Gazve adı verilir.</a:t>
            </a:r>
            <a:r>
              <a:rPr b="0" lang="tr-TR" sz="36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0" lang="tr-TR" sz="3600" spc="-1" strike="noStrike">
                <a:solidFill>
                  <a:srgbClr val="000066"/>
                </a:solidFill>
                <a:latin typeface="Comic Sans MS"/>
              </a:rPr>
              <a:t>Bu tanıma göre aşağıdakilerden hangisi gazve değildir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3366ff"/>
                </a:solidFill>
                <a:latin typeface="Comic Sans MS"/>
              </a:rPr>
              <a:t>    </a:t>
            </a: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A)Bedir Savaşı     B)Sıffın Savaşı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C)Hayber’in Fethi D)Uhud Savaşı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99"/>
                </a:solidFill>
                <a:latin typeface="Comic Sans MS"/>
              </a:rPr>
              <a:t>Cevap: </a:t>
            </a:r>
            <a:r>
              <a:rPr b="0" lang="tr-TR" sz="3600" spc="-1" strike="noStrike">
                <a:solidFill>
                  <a:srgbClr val="ff3300"/>
                </a:solidFill>
                <a:latin typeface="Comic Sans MS"/>
              </a:rPr>
              <a:t>B)Sıffın Savaşı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99"/>
                </a:solidFill>
                <a:latin typeface="Comic Sans MS"/>
              </a:rPr>
              <a:t>1038 yılında Nişabur şehrini ele geçiren Tuğrul Bey, burada kendi adına hutbe okutup para bastırmıştır.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66"/>
                </a:solidFill>
                <a:latin typeface="Comic Sans MS"/>
              </a:rPr>
              <a:t>     </a:t>
            </a:r>
            <a:r>
              <a:rPr b="0" lang="tr-TR" sz="3200" spc="-1" strike="noStrike">
                <a:solidFill>
                  <a:srgbClr val="000066"/>
                </a:solidFill>
                <a:latin typeface="Comic Sans MS"/>
              </a:rPr>
              <a:t>Bu bilgiye göre aşağıdakilerden hangisi söylenebilir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A)Devletin bağımsızlığı ilan edilmişt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B)Devleti ekonomisi bozulmuştu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C)Merkezi otorite zayıflamışt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D)Abbasi halifesi kurtarılmışt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evap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)Devletin bağımsızlığı ilan edilmişti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99"/>
                </a:solidFill>
                <a:latin typeface="Comic Sans MS"/>
              </a:rPr>
              <a:t>Türklerde ölen kişilerin ardından yas tutulmuş ve yuğ adı verilen törenleri düzenlenmiştir.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66"/>
                </a:solidFill>
                <a:latin typeface="Comic Sans MS"/>
              </a:rPr>
              <a:t>     </a:t>
            </a:r>
            <a:r>
              <a:rPr b="0" lang="tr-TR" sz="3200" spc="-1" strike="noStrike">
                <a:solidFill>
                  <a:srgbClr val="000066"/>
                </a:solidFill>
                <a:latin typeface="Comic Sans MS"/>
              </a:rPr>
              <a:t>Bu durum aşağıdakilerden hangisine kanıt olarak gösterilebilir?</a:t>
            </a:r>
            <a:br>
              <a:rPr sz="3200"/>
            </a:b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A)Çok tanrılı inanç sisteminin var olduğuna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B)Ölen kişilere saygı duyulduğuna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C)Ahiret inancının var olduğuna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D)Yerleşik yaşamın yaygınlaştığın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evap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B)Ölen kişilere saygı duyulduğun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Comic Sans MS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Uygurlara ait bir yerleşim biriminde yapılan kazılarda su kanallarına ve tahta harflerden oluşmuş matbaaya rastlanmıştır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Bu bilgilere göre</a:t>
            </a: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Uygurlarla ilgili olarak aşağıdakilerden hangisi söylenemez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Kültürel alanda gelişilmişti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Tarımsal faaliyetlerle uğraşılmıştı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Tek tanrılı inanç sistemi vardı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)Yerleşik yaşam sürdürülmüştü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Cevap: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)Tek tanrılı inanç sistemi vardır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Forte"/>
              </a:rPr>
              <a:t>4.ÜNİTE</a:t>
            </a:r>
            <a:br>
              <a:rPr sz="9600"/>
            </a:br>
            <a:br>
              <a:rPr sz="3600"/>
            </a:br>
            <a:r>
              <a:rPr b="0" lang="en-US" sz="7200" spc="-1" strike="noStrike">
                <a:solidFill>
                  <a:srgbClr val="3366ff"/>
                </a:solidFill>
                <a:latin typeface="Forte"/>
              </a:rPr>
              <a:t>ÜLKEMİZİN</a:t>
            </a: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3366ff"/>
                </a:solidFill>
                <a:latin typeface="Forte"/>
              </a:rPr>
              <a:t>KAYNAKLARI</a:t>
            </a:r>
            <a:endParaRPr b="1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pull dir="rd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915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kes tarafından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bul edilen sürekli olagelen kolayca anlaşılabilir bilgilere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olgu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işiden kişiye değişen kimine göre doğru kimine göre yanlış olan bilgilere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görüş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için geçici çözüm yoluna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hipotez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ürk Tetkik Cemiyeti’nin sonraki adı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ürk Tari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Kurumu’du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 Temmuz 1932’de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ürk Dil Kurum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kurulmuştur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Karadeniz Bölgesi’nde muz yetiştirilmekted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Bakır, Artvin(Murgul) ve Kastamonu(Küre) illerinde çıkarılmaktad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Bor ülkemiz  de hiç çıkarılmamaktad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Türkiye’de büyükbaş hayvancılık yapılmaz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Balıkçılık kıyı bölgelerde yapıl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Karadeniz Bölgesi’nde muz yetiştirilmekted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Bakır, Artvin(Murgul) ve Kastamonu(Küre) illerinde çıkarılmaktad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Bor ülkemiz  de hiç çıkarılmamaktad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Türkiye’de büyükbaş hayvancılık yapılmaz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Balıkçılık kıyı bölgelerde yapıl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0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............... en fazla Marmara Bölgesi’nde yetiştirilir ve yağ sanayisinde kullanıl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ğla,Ordu,Rize,Hakkari,Bitlis,Kars ve Erzurum illerinde …………… yapılmaktad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onguldak’ta çıkarılan maden ……………………dü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mara Bölgesi’nde ……………… gelişmişt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letin vatandaşına yüklediği ekonomik yükümlülüğe …………… 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072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yçiçeğ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fazla Marmara Bölgesi’nde yetiştirilir ve yağ sanayisinde kullanıl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ğla,Ordu,Rize,Hakkari,Bitlis,Kars ve Erzurum illerinde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rıcılı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apılmaktad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onguldak’ta çıkarılan maden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aş kömürü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ü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mara Bölgesi’nde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sanay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gelişmişt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letin vatandaşına yüklediği ekonomik yükümlülüğe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verg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80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Doğal bitki örtüsü bozkır olan bir iklim bölgesinde aşağıdaki tarım ürünlerinden hangisi yaygın olarak yetiştirilebilir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)Zeytin-Mısır     B)Üzüm-Fındık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)Buğday-Arpa     D)Tütün-Çay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Cevap: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)Buğday-Arpa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Comic Sans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Aşağıda verilen hayvancılık türlerinden hangisi doğal bitki örtüsüne en az bağımlılık duyar?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)Arı                 B)Küçükbaş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)Büyükbaş        D)Küme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evap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D)Küme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218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Bir yörede turizmle beraber aşağıdaki etkinliklerden hangisinde gelişme görülmez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)Ulaşım                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)Fabrikalaşma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)Ticaret             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)Haberleş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evap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B)Fabrikalaşma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mic Sans MS"/>
              </a:rPr>
              <a:t>Aşağıdaki yargılardan olgu olanlarına ‘O’, görüş olanlarına ‘G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800080"/>
                </a:solidFill>
                <a:latin typeface="Comic Sans MS"/>
              </a:rPr>
              <a:t>yazınız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)Artık Türk sinemasında yeni, heyecanlı filmler yok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)Türkiye’nin en kalabalık şehri İstanbul’du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)Yaban, Yakup Kadri Karaosmanoğlu’nun en güzel kitabıd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)Türkiye’de dört mevsim belirgin olarak yaşan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)Ben Sosyal Bilgiler dersini çok seviyorum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Aşağıdaki illerden hangisinde petrol rafinerisi bulunduğu söylenemez?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)Kırıkkale          B)İzmi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)İzmir               D)Burs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evap: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D)Bursa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91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Aşağıdaki kuruluşlardan hangisi esnafa,tüccara,çiftçiye kredi vererek ekonominin kalkınmasını sağlar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)Sanayi Odaları   B)Bankala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)Ticaret Odaları  D)Esnaf Odaları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Cevap: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B)Bankala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3516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Forte"/>
              </a:rPr>
              <a:t>5.ÜNİTE</a:t>
            </a:r>
            <a:endParaRPr b="0" lang="en-US" sz="9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66ff"/>
                </a:solidFill>
                <a:latin typeface="Forte"/>
              </a:rPr>
              <a:t>ÜLKEMİZ 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66ff"/>
                </a:solidFill>
                <a:latin typeface="Forte"/>
              </a:rPr>
              <a:t>VE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66ff"/>
                </a:solidFill>
                <a:latin typeface="Forte"/>
              </a:rPr>
              <a:t>DÜNYA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pull dir="rd"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0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Bir ülkenin dışarıdan mal almasına ihraç den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Bir ülkenin başka bir ülkeye mal satmasına ihraç den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İnsanların ülke içi ya da ülkeler arasında kar amaçlı olarak yaptıkları alışverişe ticaret den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Türkiye en çok pamuk, fındık, tekstil ürünleri,üzüm,incir ve bor ithal ede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 )Ülkemiz en çok ithalat ve ihracatı Almanya ile yapmaktad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0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Bir ülkenin dışarıdan mal almasına ihraç den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Bir ülkenin başka bir ülkeye mal satmasına ihraç den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İnsanların ülke içi ya da ülkeler arasında kar amaçlı olarak yaptıkları alışverişe ticaret deni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Türkiye en çok pamuk, fındık, tekstil ürünleri,üzüm,incir ve bor ithal ede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Ülkemiz en çok ithalat ve ihracatı Almanya ile yapmaktadır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………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Orta Asya’da bulunan Türk Cumhuriyetleri’nin yüz ölçümü en geniş olanıd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r ülkenin sanayisi gelişmiş ise o ülkenin ………………………… de gelişmişt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üneydoğu Asya Ülkeleri nüfusun en …………… olduğu bölgelerd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knolojik araç ve gereçler ülkemizin …………… ettiği ürünlerd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luslar arası …………… ve ………… etkinlikleri, toplumlar arası ilişkileri kuvvetlendirmektedir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0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9280" y="115920"/>
            <a:ext cx="864072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Kazakista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Orta Asya’da bulunan Türk Cumhuriyetleri’nin yüz ölçümü en geniş olanıd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r ülkenin sanayisi gelişmiş ise o ülkenin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hizmet sektörü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gelişmişt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üneydoğu Asya Ülkeleri nüfusun en  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yoğu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lduğu bölgelerd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knolojik araç ve gereçler ülkemizin  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ith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ttiği ürünlerd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luslar arası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kültü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ve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sp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tkinlikleri, toplumlar arası ilişkileri kuvvetlendirmektedir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0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Aşağıdakilerden hangisi dünya üzerinde nüfusun dağılışını etkileyen faktörlerden değildir?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)Bitki Örtüsü         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)Su Durumu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)Yüz Ölçümü           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)Toprak Özellikleri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evap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)Yüz Ölçüm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Comic Sans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Aşağıdakilerden hangisi Türkiye’nin ihraç ettiği ürünler arasında gösterilemez?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)Pamuk,fındık,üzüm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)Suni gübr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)Tekstil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ürünleri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)Ham maddeler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mic Sans MS"/>
              </a:rPr>
              <a:t>Aşağıdaki yargılardan olgu olanlarına ‘O’, görüş olanlarına ‘G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800080"/>
                </a:solidFill>
                <a:latin typeface="Comic Sans MS"/>
              </a:rPr>
              <a:t>yazınız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Artık Türk sinemasında yeni, heyecanlı filmler yok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Türkiye’nin en kalabalık şehri İstanbul’du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Yaban, Yakup Kadri Karaosmanoğlu’nun en güzel kitabıd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Türkiye’de dört mevsim belirgin olarak yaşan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Ben Sosyal Bilgiler dersini çok seviyorum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evap: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B)Suni gübr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Aşağıdakilerden hangisi Türkiye’nin ticaret yapmakta olduğu Türk Cumhuriyetleri’nden değildir?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)Özbekistan          B)Kırgızista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)Azerbaycan          D)Yunanista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evap: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D)Yunanista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Aşağıdakilerden hangisi uluslar arası ilişkileri kuvvetlendiren kültürel etkinliklerden değildir?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)Sinema               B)Tiyatro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)Resim sergisi      D)Futbol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Cevap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D)Futbol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Comic Sans MS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Bir toplumu oluşturan bireylerin bir konuda duygu, düşünce ve çıkar birliği içinde olmalarına ne ad verilmektedir?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)Dayanışma       B)İthal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)İhracat           D)Yardımseverlik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evap: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A)Dayanışma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Forte"/>
              </a:rPr>
              <a:t>6.ÜNİTE</a:t>
            </a:r>
            <a:br>
              <a:rPr sz="9600"/>
            </a:br>
            <a:br>
              <a:rPr sz="9600"/>
            </a:br>
            <a:r>
              <a:rPr b="1" lang="en-US" sz="6600" spc="-1" strike="noStrike">
                <a:solidFill>
                  <a:srgbClr val="3366ff"/>
                </a:solidFill>
                <a:latin typeface="Forte"/>
              </a:rPr>
              <a:t>DEMOKRASİNİN</a:t>
            </a:r>
            <a:br>
              <a:rPr sz="6600"/>
            </a:br>
            <a:br>
              <a:rPr sz="6600"/>
            </a:br>
            <a:r>
              <a:rPr b="1" lang="en-US" sz="6600" spc="-1" strike="noStrike">
                <a:solidFill>
                  <a:srgbClr val="3366ff"/>
                </a:solidFill>
                <a:latin typeface="Forte"/>
              </a:rPr>
              <a:t>SERÜVENİ</a:t>
            </a:r>
            <a:endParaRPr b="1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pull dir="rd"/>
  </p:transition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0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Comic Sans MS"/>
              </a:rPr>
              <a:t>(  )Cumhuriyet yönetimi, demokrasi ilkelerinin en iyi uygulandığı bir sistemdir.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Comic Sans MS"/>
              </a:rPr>
              <a:t>(  )İnsan hakları insan onurunu korumayı, insanın maddi ve manevi gelişmesini sağlamayı amaçlayan haklardır.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Comic Sans MS"/>
              </a:rPr>
              <a:t>(  )’’Hammurabi Yasaları’’ demokratik toplumlarda uygulanabilecek niteliktedir.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Comic Sans MS"/>
              </a:rPr>
              <a:t>(  )Türk tarihinin ilk anayasası Kanun-i Esasi’dir.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Comic Sans MS"/>
              </a:rPr>
              <a:t>(  )Tarihte ilk demokratik belge Meclis-i Umumi’dir.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0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tr-TR" sz="3400" spc="-1" strike="noStrike">
                <a:solidFill>
                  <a:srgbClr val="ff3300"/>
                </a:solidFill>
                <a:latin typeface="Comic Sans MS"/>
              </a:rPr>
              <a:t>D</a:t>
            </a:r>
            <a:r>
              <a:rPr b="0" lang="tr-TR" sz="3400" spc="-1" strike="noStrike">
                <a:solidFill>
                  <a:srgbClr val="000000"/>
                </a:solidFill>
                <a:latin typeface="Comic Sans MS"/>
              </a:rPr>
              <a:t>)Cumhuriyet yönetimi, demokrasi ilkelerinin en iyi uygulandığı bir sistemdir.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tr-TR" sz="3400" spc="-1" strike="noStrike">
                <a:solidFill>
                  <a:srgbClr val="ff3300"/>
                </a:solidFill>
                <a:latin typeface="Comic Sans MS"/>
              </a:rPr>
              <a:t>D</a:t>
            </a:r>
            <a:r>
              <a:rPr b="0" lang="tr-TR" sz="3400" spc="-1" strike="noStrike">
                <a:solidFill>
                  <a:srgbClr val="000000"/>
                </a:solidFill>
                <a:latin typeface="Comic Sans MS"/>
              </a:rPr>
              <a:t>)İnsan hakları insan onurunu korumayı, insanın maddi ve manevi gelişmesini sağlamayı amaçlayan haklardır.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tr-TR" sz="3400" spc="-1" strike="noStrike">
                <a:solidFill>
                  <a:srgbClr val="ff3300"/>
                </a:solidFill>
                <a:latin typeface="Comic Sans MS"/>
              </a:rPr>
              <a:t>Y</a:t>
            </a:r>
            <a:r>
              <a:rPr b="0" lang="tr-TR" sz="3400" spc="-1" strike="noStrike">
                <a:solidFill>
                  <a:srgbClr val="000000"/>
                </a:solidFill>
                <a:latin typeface="Comic Sans MS"/>
              </a:rPr>
              <a:t>)’’Hammurabi Yasaları’’ demokratik toplumlarda uygulanabilecek niteliktedir.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tr-TR" sz="3400" spc="-1" strike="noStrike">
                <a:solidFill>
                  <a:srgbClr val="ff3300"/>
                </a:solidFill>
                <a:latin typeface="Comic Sans MS"/>
              </a:rPr>
              <a:t>D</a:t>
            </a:r>
            <a:r>
              <a:rPr b="0" lang="tr-TR" sz="3400" spc="-1" strike="noStrike">
                <a:solidFill>
                  <a:srgbClr val="000000"/>
                </a:solidFill>
                <a:latin typeface="Comic Sans MS"/>
              </a:rPr>
              <a:t>)Türk tarihinin ilk anayasası Kanun-i Esasi’dir.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tr-TR" sz="3400" spc="-1" strike="noStrike">
                <a:solidFill>
                  <a:srgbClr val="ff3300"/>
                </a:solidFill>
                <a:latin typeface="Comic Sans MS"/>
              </a:rPr>
              <a:t>Y</a:t>
            </a:r>
            <a:r>
              <a:rPr b="0" lang="tr-TR" sz="3400" spc="-1" strike="noStrike">
                <a:solidFill>
                  <a:srgbClr val="000000"/>
                </a:solidFill>
                <a:latin typeface="Comic Sans MS"/>
              </a:rPr>
              <a:t>)Tarihte ilk demokratik belge Meclis-i Umumi’dir.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şağıdakilerden hangisi olguya örnek değildir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) Sosyal Bilgiler iyi bir vatandaş olmamızı sağla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) En kolay ders Matematik’t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) Türkiye’nin yedi coğrafi bölgesi vard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) En fazla yağış alan bölgemiz Karadeniz’d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Bir devletin dini kurallara dayanarak yönetilmesine ……………… 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……………… 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sayesinde duygu ve düşüncelerimizi özgürce ifade edebiliriz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Tarihte ilk demokratik belge …………… …………… ………………’du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Demokrasilerde aynı düşünceyi paylaşan insanlar ülke yönetiminde söz sahibi olmak amacıyla bir araya gelerek ………… …………… adı verilen örgütler kurarla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Demokrasi, Yunanca demos (halk) ve kratos (iktidar) kelimelerinin birleşmesinden oluşmuş olup ………… …………… demekt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0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Bir devletin dini kurallara dayanarak yönetilmesine </a:t>
            </a:r>
            <a:r>
              <a:rPr b="0" lang="tr-TR" sz="3200" spc="-1" strike="noStrike">
                <a:solidFill>
                  <a:srgbClr val="ff3300"/>
                </a:solidFill>
                <a:latin typeface="Comic Sans MS"/>
              </a:rPr>
              <a:t>Teokrasi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3300"/>
                </a:solidFill>
                <a:latin typeface="Comic Sans MS"/>
              </a:rPr>
              <a:t>Demokrasi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sayesinde duygu ve düşüncelerimizi özgürce ifade edebiliriz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Tarihte ilk demokratik belge  </a:t>
            </a:r>
            <a:r>
              <a:rPr b="0" lang="tr-TR" sz="3200" spc="-1" strike="noStrike">
                <a:solidFill>
                  <a:srgbClr val="ff3300"/>
                </a:solidFill>
                <a:latin typeface="Comic Sans MS"/>
              </a:rPr>
              <a:t>Magna     Karta Libertatum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’du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Demokrasilerde aynı düşünceyi paylaşan insanlar ülke yönetiminde söz sahibi olmak amacıyla bir araya gelerek </a:t>
            </a:r>
            <a:r>
              <a:rPr b="0" lang="tr-TR" sz="3200" spc="-1" strike="noStrike">
                <a:solidFill>
                  <a:srgbClr val="ff3300"/>
                </a:solidFill>
                <a:latin typeface="Comic Sans MS"/>
              </a:rPr>
              <a:t>Siyasi Parti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adı verilen örgütler kurarla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Demokrasi, Yunanca demos (halk) ve kratos (iktidar) kelimelerinin birleşmesinden oluşmuş olup </a:t>
            </a:r>
            <a:r>
              <a:rPr b="0" lang="tr-TR" sz="3200" spc="-1" strike="noStrike">
                <a:solidFill>
                  <a:srgbClr val="ff3300"/>
                </a:solidFill>
                <a:latin typeface="Comic Sans MS"/>
              </a:rPr>
              <a:t>‘Halk İktidarı’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demektir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99"/>
                </a:solidFill>
                <a:latin typeface="Comic Sans MS"/>
              </a:rPr>
              <a:t>l. Sabiha Gökçen:İlk kadın pilo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0" lang="tr-TR" sz="3200" spc="-1" strike="noStrike">
                <a:solidFill>
                  <a:srgbClr val="000099"/>
                </a:solidFill>
                <a:latin typeface="Comic Sans MS"/>
              </a:rPr>
              <a:t>ll. Safiye Ali:İlk kadın doktor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0" lang="tr-TR" sz="3200" spc="-1" strike="noStrike">
                <a:solidFill>
                  <a:srgbClr val="000099"/>
                </a:solidFill>
                <a:latin typeface="Comic Sans MS"/>
              </a:rPr>
              <a:t>lll. Türkan Akyol:İlk kadın vali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0" lang="tr-TR" sz="3200" spc="-1" strike="noStrike">
                <a:solidFill>
                  <a:srgbClr val="000099"/>
                </a:solidFill>
                <a:latin typeface="Comic Sans MS"/>
              </a:rPr>
              <a:t>lV. Refet Angın:İlk kadın tarih öğretmeni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tr-TR" sz="3200" spc="-1" strike="noStrike">
                <a:solidFill>
                  <a:srgbClr val="000066"/>
                </a:solidFill>
                <a:latin typeface="Comic Sans MS"/>
              </a:rPr>
              <a:t>Yukarıdaki eşleştirmelerden hangisi yanlıştır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A)l          B)ll          C)lll          D)lV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2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8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Cevap: </a:t>
            </a:r>
            <a:r>
              <a:rPr b="0" lang="tr-TR" sz="3200" spc="-1" strike="noStrike">
                <a:solidFill>
                  <a:srgbClr val="ff3300"/>
                </a:solidFill>
                <a:latin typeface="Comic Sans MS"/>
              </a:rPr>
              <a:t>C)ll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Comic Sans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Demokratik yönetimlerde aşağıdaki özelliklerden hangisinden söz edilemez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)Seçimlerin yapılması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)Sivil toplum örgütlerinin kurulması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)Hak ve özgürlüklere saygı duyulması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)Yöneticilerin sınırsız yetkilerinin olması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4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evap: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)Yöneticilerin sınırsız yetkilerinin     olması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cc"/>
                </a:solidFill>
                <a:latin typeface="Comic Sans MS"/>
              </a:rPr>
              <a:t>Türk Tarihi’nde anayasal düzene aşağıdakilerden hangisi ile geçirilmiştir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A)Sultan Süleyman Kanunnameleri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B)Kanun-i Esasi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C)Sened-i İttifak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D)Kanunname-i Ali Osman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2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evap: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B)Kanun-i Esasi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omic Sans MS"/>
              </a:rPr>
              <a:t>Aşağıdaki ülkelerden hangisi ‘Meşruti monarşi’ ile yönetilmektedir?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)Türkiye           B)Suriy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) İngiltere        D)İra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6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evap: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) İngilter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evap: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 B) En kolay ders Matematik’t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SzPct val="70000"/>
              <a:buFont typeface="Comic Sans MS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‘</a:t>
            </a: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Berlin Duvarı’ aşağıdaki ülkelerden hangisine örülmüştür?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)Almanya       B)ABD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)İngiltere      D)Sovyet Rusy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evap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)Almany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Forte"/>
              </a:rPr>
              <a:t>7.ÜNİTE</a:t>
            </a:r>
            <a:br>
              <a:rPr sz="9600"/>
            </a:br>
            <a:br>
              <a:rPr sz="9600"/>
            </a:br>
            <a:r>
              <a:rPr b="1" lang="en-US" sz="6600" spc="-1" strike="noStrike">
                <a:solidFill>
                  <a:srgbClr val="0099cc"/>
                </a:solidFill>
                <a:latin typeface="Forte"/>
              </a:rPr>
              <a:t>ELEKTRONİK</a:t>
            </a:r>
            <a:br>
              <a:rPr sz="6600"/>
            </a:br>
            <a:r>
              <a:rPr b="1" lang="en-US" sz="2000" spc="-1" strike="noStrike">
                <a:solidFill>
                  <a:srgbClr val="0099cc"/>
                </a:solidFill>
                <a:latin typeface="Forte"/>
              </a:rPr>
              <a:t> </a:t>
            </a:r>
            <a:br>
              <a:rPr sz="2800"/>
            </a:br>
            <a:r>
              <a:rPr b="1" lang="en-US" sz="6600" spc="-1" strike="noStrike">
                <a:solidFill>
                  <a:srgbClr val="0099cc"/>
                </a:solidFill>
                <a:latin typeface="Forte"/>
              </a:rPr>
              <a:t>YÜZYIL</a:t>
            </a:r>
            <a:endParaRPr b="1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pull dir="rd"/>
  </p:transition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0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)İnsan hayatındaki önemli olayları kısaca anlatmasına biyografi 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)Bir kişinin hayatındaki olayları doğumundan yaşadığı o ana kadar sıralamasına arkeoloji 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)Yeni maddeler bulmak için kullandıkları farklı yöntemleri de içine alan tekniklerin tümüne teknoloji 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)Dünya çapında yaygın olan ve sürekli büyüyen iletişim ağına internet 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)İcat, buluş sahibinin ortaya koyduğu ürünü belirli bir süre üretme, kullanma veya satma hakkıd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0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İnsan hayatındaki önemli olayları kısaca anlatmasına biyografi 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Bir kişinin hayatındaki olayları doğumundan yaşadığı o ana kadar sıralamasına arkeoloji 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Yeni maddeler bulmak için kullandıkları farklı yöntemleri de içine alan tekniklerin tümüne teknoloji 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Dünya çapında yaygın olan ve sürekli büyüyen iletişim ağına internet deni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İcat, buluş sahibinin ortaya koyduğu ürünü belirli bir süre üretme, kullanma veya satma hakkıd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470" dur="indefinite" restart="never" nodeType="tmRoot">
          <p:childTnLst>
            <p:seq>
              <p:cTn id="1471" dur="indefinite" nodeType="mainSeq">
                <p:childTnLst>
                  <p:par>
                    <p:cTn id="1472" fill="hold">
                      <p:stCondLst>
                        <p:cond delay="0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Buluş sahibinin ortaya koyduğu ürünü belirli bir süre üretme, kullanma veya satma hakkına …………… denir.</a:t>
            </a:r>
            <a:endParaRPr b="0" lang="en-US" sz="33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Bazı hastalıklara karşı direnci artırmak amacıyla ……… yapılır.</a:t>
            </a:r>
            <a:endParaRPr b="0" lang="en-US" sz="33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Son yıllarda kullanılan ulaşım aracı …………’tır.</a:t>
            </a:r>
            <a:endParaRPr b="0" lang="en-US" sz="33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……………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, bulaşıcı bir hastalıktır.</a:t>
            </a:r>
            <a:endParaRPr b="0" lang="en-US" sz="33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Eserlerin üzerine yapıştırılarak devletçe belirli bir verginin kesildiğini gösteren etiketler bulunmalıdır ki bu etiketlere …………… denilmektedir.</a:t>
            </a:r>
            <a:endParaRPr b="0" lang="en-US" sz="3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0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Buluş sahibinin ortaya koyduğu ürünü belirli bir süre üretme, kullanma veya satma hakkına </a:t>
            </a:r>
            <a:r>
              <a:rPr b="0" lang="en-US" sz="3300" spc="-1" strike="noStrike">
                <a:solidFill>
                  <a:srgbClr val="ff0000"/>
                </a:solidFill>
                <a:latin typeface="Comic Sans MS"/>
              </a:rPr>
              <a:t>patent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 denir.</a:t>
            </a:r>
            <a:endParaRPr b="0" lang="en-US" sz="33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Bazı hastalıklara karşı direnci artırmak amacıyla </a:t>
            </a:r>
            <a:r>
              <a:rPr b="0" lang="en-US" sz="3300" spc="-1" strike="noStrike">
                <a:solidFill>
                  <a:srgbClr val="ff0000"/>
                </a:solidFill>
                <a:latin typeface="Comic Sans MS"/>
              </a:rPr>
              <a:t>aşı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 yapılır.</a:t>
            </a:r>
            <a:endParaRPr b="0" lang="en-US" sz="33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Son yıllarda kullanılan ulaşım aracı  </a:t>
            </a:r>
            <a:r>
              <a:rPr b="0" lang="en-US" sz="3300" spc="-1" strike="noStrike">
                <a:solidFill>
                  <a:srgbClr val="ff0000"/>
                </a:solidFill>
                <a:latin typeface="Comic Sans MS"/>
              </a:rPr>
              <a:t>uçak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’tır.</a:t>
            </a:r>
            <a:endParaRPr b="0" lang="en-US" sz="33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Comic Sans MS"/>
              </a:rPr>
              <a:t>Kuduz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, bulaşıcı bir hastalıktır.</a:t>
            </a:r>
            <a:endParaRPr b="0" lang="en-US" sz="33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Eserlerin üzerine yapıştırılarak devletçe belirli bir verginin kesildiğini gösteren etiketler bulunmalıdır ki bu etiketlere </a:t>
            </a:r>
            <a:r>
              <a:rPr b="0" lang="en-US" sz="3300" spc="-1" strike="noStrike">
                <a:solidFill>
                  <a:srgbClr val="ff0000"/>
                </a:solidFill>
                <a:latin typeface="Comic Sans MS"/>
              </a:rPr>
              <a:t>bandrol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 denilmektedir.</a:t>
            </a:r>
            <a:endParaRPr b="0" lang="en-US" sz="3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0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omic Sans MS"/>
              </a:rPr>
              <a:t>İnsanların hayatlarındaki değişimleri, gelişimleri anlatmak için aşağıdakilerden hangisini kullandıkları söylenemez?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)Kronoloji        B)Biyografi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)Matematik      D)Coğrafya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1" dur="indefinite" restart="never" nodeType="tmRoot">
          <p:childTnLst>
            <p:seq>
              <p:cTn id="1492" dur="indefinite" nodeType="mainSeq">
                <p:childTnLst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8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6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evap: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)Matematik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Comic Sans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omic Sans MS"/>
              </a:rPr>
              <a:t>Aşağıdakilerden hangisi insanlık adına bulunmuş teknolojik araçlardan biri değildir?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)Uçak             B)Aşı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)Gömlek          D)Bulaşık Makinesi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evap: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)Gömlek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7" dur="indefinite" restart="never" nodeType="tmRoot">
          <p:childTnLst>
            <p:seq>
              <p:cTn id="1518" dur="indefinite" nodeType="mainSeq">
                <p:childTnLst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2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0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8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SzPct val="70000"/>
              <a:buFont typeface="Comic Sans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Comic Sans MS"/>
              </a:rPr>
              <a:t>Kişiden kişiye değişen düşüncelere ne denir?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)Olgu           B)Görüş              C)Hipotez      D)Olay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şağıda verilenlerden hangisi teknolojinin ilk örnekleri arasında gösterilebilir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)Uçak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)Cep Telefonu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)Taş Balta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)Çamaşır Makinesi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evap: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)Taş Balta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9" dur="indefinite" restart="never" nodeType="tmRoot">
          <p:childTnLst>
            <p:seq>
              <p:cTn id="1560" dur="indefinite" nodeType="mainSeq">
                <p:childTnLst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8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6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4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0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8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74"/>
              </a:spcBef>
              <a:buClr>
                <a:srgbClr val="ff0000"/>
              </a:buClr>
              <a:buSzPct val="70000"/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cc"/>
                </a:solidFill>
                <a:latin typeface="Comic Sans MS"/>
              </a:rPr>
              <a:t>Aşağıdakilerden hangisi insanların yaşantısını kolaylaştıran sosyal bilimlerden biridir?</a:t>
            </a:r>
            <a:endParaRPr b="0" lang="en-US" sz="43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A)Psikoloji          B)Fizik</a:t>
            </a:r>
            <a:endParaRPr b="0" lang="en-US" sz="43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C)Kimya              D)Madencilik</a:t>
            </a:r>
            <a:endParaRPr b="0" lang="en-US" sz="43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9" dur="indefinite" restart="never" nodeType="tmRoot">
          <p:childTnLst>
            <p:seq>
              <p:cTn id="1610" dur="indefinite" nodeType="mainSeq">
                <p:childTnLst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6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4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74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Cevap: </a:t>
            </a:r>
            <a:r>
              <a:rPr b="0" lang="en-US" sz="4300" spc="-1" strike="noStrike">
                <a:solidFill>
                  <a:srgbClr val="ff0000"/>
                </a:solidFill>
                <a:latin typeface="Comic Sans MS"/>
              </a:rPr>
              <a:t>A)Psikoloji</a:t>
            </a:r>
            <a:endParaRPr b="0" lang="en-US" sz="4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51"/>
              </a:spcBef>
              <a:buClr>
                <a:srgbClr val="ff0000"/>
              </a:buClr>
              <a:buSzPct val="70000"/>
              <a:buFont typeface="Comic Sans MS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cc"/>
                </a:solidFill>
                <a:latin typeface="Comic Sans MS"/>
              </a:rPr>
              <a:t>Aşağıdakilerden hangisi teknolojik bir buluş değildir?</a:t>
            </a:r>
            <a:endParaRPr b="0" lang="en-US" sz="4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600" spc="-1" strike="noStrike">
                <a:solidFill>
                  <a:srgbClr val="000000"/>
                </a:solidFill>
                <a:latin typeface="Comic Sans MS"/>
              </a:rPr>
              <a:t>A)Cep Telefonu     B)Araba</a:t>
            </a:r>
            <a:endParaRPr b="0" lang="en-US" sz="4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600" spc="-1" strike="noStrike">
                <a:solidFill>
                  <a:srgbClr val="000000"/>
                </a:solidFill>
                <a:latin typeface="Comic Sans MS"/>
              </a:rPr>
              <a:t>C)Televizyon         D)Şapka</a:t>
            </a:r>
            <a:endParaRPr b="0" lang="en-US" sz="4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5" dur="indefinite" restart="never" nodeType="tmRoot">
          <p:childTnLst>
            <p:seq>
              <p:cTn id="1636" dur="indefinite" nodeType="mainSeq">
                <p:childTnLst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2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0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5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omic Sans MS"/>
              </a:rPr>
              <a:t>Cevap: </a:t>
            </a:r>
            <a:r>
              <a:rPr b="0" lang="en-US" sz="4600" spc="-1" strike="noStrike">
                <a:solidFill>
                  <a:srgbClr val="ff0000"/>
                </a:solidFill>
                <a:latin typeface="Comic Sans MS"/>
              </a:rPr>
              <a:t>D)Şapka</a:t>
            </a:r>
            <a:endParaRPr b="0" lang="en-US" sz="4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4358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80"/>
                </a:solidFill>
                <a:latin typeface="Forte"/>
              </a:rPr>
              <a:t>NAZAN</a:t>
            </a:r>
            <a:endParaRPr b="0" lang="en-US" sz="9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80"/>
                </a:solidFill>
                <a:latin typeface="Forte"/>
              </a:rPr>
              <a:t>TUNAY</a:t>
            </a:r>
            <a:endParaRPr b="0" lang="en-US" sz="9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80"/>
                </a:solidFill>
                <a:latin typeface="Forte"/>
              </a:rPr>
              <a:t>ARAT</a:t>
            </a:r>
            <a:endParaRPr b="0" lang="en-US" sz="9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0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15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5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15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5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15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15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3:21:34Z</dcterms:created>
  <dc:creator>xp</dc:creator>
  <dc:description/>
  <dc:language>en-US</dc:language>
  <cp:lastModifiedBy>PERFECT XP PC1</cp:lastModifiedBy>
  <dcterms:modified xsi:type="dcterms:W3CDTF">2009-11-03T08:11:07Z</dcterms:modified>
  <cp:revision>25</cp:revision>
  <dc:subject/>
  <dc:title>Slayt 1</dc:title>
</cp:coreProperties>
</file>